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240-0456-4647-9C22-262BE305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75F-BD18-47D6-91C0-C1920D24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0401B-2E3E-41CA-A150-2EAD4336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EA312-0073-4049-9A47-3FFD25A3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E6F7A-FF3C-4B84-A7F8-4AE11437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36981-A4A3-4090-B633-3B2C3C3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55D60-4D00-4E02-814C-392FDB3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30913-B6B0-4EF0-BF34-4C8F698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0CC5A-0CD8-4B11-BA1E-50B70AD3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2E3D6-4DF9-458A-AED4-B018C8D5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A21C9-640F-4E6F-8EB1-CC19516A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E7C61-02C0-4423-8200-BB9CFEAB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7A6-BF1D-4A0F-8C38-868FB204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0010C-A007-413E-84F7-AF982B2B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8529B-2F28-41E3-A68E-02BE7A5D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1881C-86C3-4278-98C7-78EA58AD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FB7B0-150B-475C-80AA-44118BF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286D7-D11E-4BCF-A81A-41E00B58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30929-588F-4C8C-9C26-1558CF55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087B5-48D7-4098-954D-19F836AA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9AF97-0E5D-48CA-B8AB-4510B91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EB9B4-54FB-49A2-8C6D-ED47C810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8346E-00E9-4C5B-85D7-452A8351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8C3-154B-45EA-AA65-AB9EEE64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FB8AC-3123-4B20-A08E-79549110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F363-2A39-4D92-84A0-07E7A030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E57D-620A-4EC9-AA13-19602D43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E9F8-937A-4CFE-AC08-95B322E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08D8-6983-4809-AC7A-6BA0415D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65B4-B17E-4FB9-89DE-4AA55E20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B009-E4A7-4F59-9253-127E705C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B1A1-D454-4F09-8EB5-59EBC46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A74-4936-4553-8B5D-CB76FE2E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42D4-DC1A-4B94-A730-DDF6C68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D245-D66A-4607-B930-9A1DAAF8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3043-A66A-4136-9FD7-679A2389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1A33-C3E3-4A15-A0ED-5081C12F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944A-8CA9-4157-BADE-E718CD15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89D9-37F4-4FE0-B97D-A2E540AD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C6FF-044A-486B-B484-E5C54F25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8718-9B54-44EF-B041-D9EFC1A3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5F7F-23BA-4632-8F07-BC78D767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AE2C-0BCB-4A07-B511-9991FD45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12F-FC2E-432F-A816-775D04CB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8721-B622-47CF-B298-BFB4BAA2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9D48-852F-4431-944D-4365F5D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F27E-4A6F-4A9B-BDAE-CC5729D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8A60-A914-443F-B24B-FB2E6FE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1CBE-2D66-43AF-BB7D-7EC581EC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CA68-5CE9-4E0F-8F45-966AD98F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2AAA-B7E4-4801-9292-7C341593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719E2-4162-48F8-906E-48197F9F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23517-8667-4A9A-927B-82FA2E85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D7E28-0AD9-4F62-944D-6676D2CB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4FD-57B5-4625-9A4C-C0D4BAAC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DFF17-BF1F-4921-A391-E21B837B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753AC-B0F2-4214-A631-DB94FB71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1D0BE-D57E-4A71-B9D8-C623F9E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F3785-CF1D-41DC-9B4F-C974A654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AEB53-560B-4D12-894D-9AB4A2DE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12FC1-0269-47DB-99F6-AA867F0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0AF3D-4799-4605-84AA-E3020FB9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BC203-69B2-4199-A4A8-1CE13915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8B778-A6DC-4158-ADA6-8F14BBBB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3C68-51D6-4CA3-B059-E4A80925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57D-6154-41A6-91BD-1E2B576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2631C-B425-4010-9792-B45F9C42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68B82-F82A-445C-9F14-210456EA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A5E0-6C32-459E-AEFC-674CA235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67ADE-C493-4676-8EBC-DBD1EB8D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891A0-DC7A-4BF6-A560-B4E481A1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B079-EE45-46D9-9144-0563C39F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03F5-ADCB-4952-BF9D-0714F0E5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79591-E221-4CE8-BED3-68AC5817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BCF64-2C01-49A0-9434-AAAAA3E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2AC9-648C-40D5-B522-DB6388DD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D3B-67D4-4E24-9EFB-B415374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B437-AC82-4F1B-A549-7085BAA7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189C9-A7FA-42BF-B343-8078FE23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83C0-5B4F-4AE6-9F28-8AF847FA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24CA4-5F54-4987-A0A5-7F51AABC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1C3B-C16C-431E-AB47-4C22082E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A5627-ADAB-4702-AAAE-A5263204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DA12B-84AF-4164-803C-9F558B0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A9C64-5523-4316-9A8B-920A757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CEFE4-1328-4BF8-BB08-63F0872E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ECBA-5B7C-432D-852E-015B274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C32-D870-47B0-A450-1504B0B8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C870B-552D-4CB5-BFB3-2A47CC41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DB22-0301-4885-96D0-1A2FB9FC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9117-3C29-454B-8410-452FB2B6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4D6D-65C0-4317-85A9-C3587941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3B19E-CEAF-42F8-8614-91595348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0A464-4800-4DE4-ADAF-23DE607A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419F1-44E2-4F63-BDD2-E60803E8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5E8FA-C1BA-4C99-B7E6-08509194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79B5-C36C-403E-A0D8-B497BAF6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844B6-58EE-4718-BD33-45D6E99C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689-54F9-4690-B896-ACFF6CD4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3605F-EA7E-4907-ACF6-B2536D7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966AC-C359-4227-A2AC-875F46F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7E3B8-A596-436F-B69D-98D9102A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742A0-FAF7-4E0E-AB5E-C1F41E1E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524B5-D6AE-4985-B287-2A710EA1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58DEF-4992-4A4F-9959-96AF0517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A5F14-C580-44AC-B8AA-6A4C394B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673DB-6DB9-4C0E-A4A0-BF9B71EC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8D592-E0A6-46EB-AE32-45B651B6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5A7FA-FE5D-4046-A854-783DFCC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D60-AA81-48F1-A4DD-5935944C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6098F-BF29-4072-B524-56A201BE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523C8-AC67-4E4A-932D-DC3329F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6BB1E-4C78-4723-AE62-26866B7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E1D52-EB4F-4781-8FF5-9DCE0CB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5EFEA-5F7D-4F35-ACCB-7BB7B5C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715A-D3C2-4BBD-8A19-944816D6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DCB75-AD89-40CB-A269-4729598D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9A52D-BF38-45A9-A361-611711B6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C792-A7DC-405F-A253-97E8EB61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B44D7-23D8-4E7F-9737-8A026110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E85B-268F-4888-A04A-2D62B45EF1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679-5F39-44AD-B2AC-E5F8000A0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76D-155F-4FEE-A0A9-EAC3CC5D9A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7BD8-50FB-4552-93CF-E00A58F9B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B317-B688-46B6-AA6E-D258BE64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FF7-2B55-4F0B-9423-7D2E2A7964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FDE4-EB69-4ECB-AA02-70018FC8D0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5E20-627A-4F7C-8EF5-59D5DD8263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48D7-912B-4844-98E8-0B7254ABD1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C937-C53F-439C-8EDB-5902C38FF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26920" y="836640"/>
            <a:ext cx="7274160" cy="33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Қазақтың ұлттық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ынд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1" i="1" lang="kk-KZ" sz="7200" spc="-1" strike="noStrike">
                <a:solidFill>
                  <a:srgbClr val="f7d47d"/>
                </a:solidFill>
                <a:latin typeface="Arial"/>
              </a:rPr>
              <a:t>Омпы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25636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kk-KZ" sz="6600" spc="-1" strike="noStrike">
                <a:solidFill>
                  <a:srgbClr val="ffffff"/>
                </a:solidFill>
                <a:latin typeface="Tahoma"/>
              </a:rPr>
              <a:t>Атбақы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7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116000" y="1390680"/>
            <a:ext cx="7128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4427640" y="3532320"/>
            <a:ext cx="471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Сөзді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й сүйегі - положение альчи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Үйіру - сбрасыв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Ұпай - оч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Кезек - очеред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Тимей қалса - если не попад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с–уыс - пригорошн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зғап кетсе  - если сдви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асқа асыққа соғылса - если заденет другой альч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ір-біріне тимесе - если не попаде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Кестемен жұмыс істейді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лалар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оялған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тың түр түрінен айтылуы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йынның бұзылуы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68360" y="2205000"/>
            <a:ext cx="820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6836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 -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2557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ан -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2205000"/>
            <a:ext cx="1584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</a:t>
            </a: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ік шігімен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үк бүгі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Тәйке тәйке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Алшы алшы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4360" y="234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20000" y="2276640"/>
            <a:ext cx="1655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қа соғыл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ір біріне тиме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ты қозғап кет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Үй тапсырма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2800" spc="-1" strike="noStrike">
                <a:solidFill>
                  <a:srgbClr val="eaeaea"/>
                </a:solidFill>
                <a:latin typeface="Courier New"/>
              </a:rPr>
              <a:t>90 бетте мәтінді оқып, әңгімеле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33:07Z</dcterms:created>
  <dc:creator>Admin</dc:creator>
  <dc:description/>
  <dc:language>en-US</dc:language>
  <cp:lastModifiedBy>13</cp:lastModifiedBy>
  <dcterms:modified xsi:type="dcterms:W3CDTF">2009-02-05T08:47:53Z</dcterms:modified>
  <cp:revision>6</cp:revision>
  <dc:subject/>
  <dc:title>Қазақ ұлттық  ойындары.</dc:title>
</cp:coreProperties>
</file>